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AAF5AFB0-92F9-41EE-BD77-E8FBECE69C99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ED513B4A-D4BC-49B0-9079-46F46F749BCD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4F7C54E9-167C-44D7-AB9C-57830E8EC74E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D36C57F4-F8B4-4D45-A199-4880D3E9E9B9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Valuation Summary of the BREP Fund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82680" y="139860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79600" y="4146480"/>
            <a:ext cx="6130800" cy="2095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1640" y="1746360"/>
            <a:ext cx="85280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note"/>
          <p:cNvSpPr/>
          <p:nvPr/>
        </p:nvSpPr>
        <p:spPr>
          <a:xfrm>
            <a:off x="369720" y="608364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5960" y="1393920"/>
            <a:ext cx="8534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note"/>
          <p:cNvSpPr/>
          <p:nvPr/>
        </p:nvSpPr>
        <p:spPr>
          <a:xfrm>
            <a:off x="379440" y="588348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6600" y="1432080"/>
            <a:ext cx="86900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22T19:06:10Z</dcterms:modified>
  <cp:revision>5173</cp:revision>
  <dc:subject/>
  <dc:title>Page Title</dc:title>
</cp:coreProperties>
</file>